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86AF-C4D6-40BC-A78B-38431A936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15F8-39B7-43A4-A671-263DFEAF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06C8-99E0-40D3-8B30-1EB52E1A5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D6EC-4201-44A7-A9CA-3198DEAE2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31FD-8E9C-4B5A-AB09-866128178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44C9-FCD9-4C52-BB83-9BD91BE1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7F93-9466-4063-8AB1-C24A3360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88A9-3856-4E45-8609-89E81008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BD75-4D16-4639-A894-2A0A7088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490A-890C-4FEE-A8CE-B1C1DCB7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DCD8-B233-4536-8E50-BB9A9528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F03D-1F95-4F69-98C9-2870737B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6135-F10F-440E-BAC3-DBBF9E81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41AA-F757-47ED-B6F9-1BE603FB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A6E4-DC94-4D40-AFD3-77637CED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F594-38FB-4FFD-9634-3A484B996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A26F-D738-4699-A386-C68DE1A4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2979-022B-47FD-A65A-D2C0E69A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B25F-1056-4DCF-A531-D24CB2C4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41DA-2AD1-49E5-8514-C984F8F8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0272-98DE-4B83-A3DB-741A0C31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40B5-4711-44E6-AA9A-AC6D2454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78E9-D492-4EB0-8D8E-775D8F26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2254-8E00-4775-950A-D70FC008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58CD-4D3D-4F24-8572-94BCCBB4409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1077-B5C8-4650-AC09-9AEC8AE9AFA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file:///tmp/home/.config/libreoffice/4/user/gallery/j0214098.wav" TargetMode="External"/><Relationship Id="rId3" Type="http://schemas.microsoft.com/office/2007/relationships/media" Target="file:///tmp/home/.config/libreoffice/4/user/gallery/j0214098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Kristen ITC"/>
              </a:rPr>
              <a:t>By: Katia Wagn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2619360"/>
            <a:ext cx="7238880" cy="42386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1143000" y="380880"/>
            <a:ext cx="51055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y Cell Projec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4745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52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2666880" y="685800"/>
            <a:ext cx="3505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Showcard Gothic"/>
              </a:rPr>
              <a:t>Vacuole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Showcard Gothic"/>
              <a:ea typeface="Showcard Gothic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0" y="3638520"/>
            <a:ext cx="4495680" cy="32194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5"/>
          <a:stretch/>
        </p:blipFill>
        <p:spPr>
          <a:xfrm>
            <a:off x="5029200" y="1905120"/>
            <a:ext cx="3333600" cy="26193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75376" fill="hold"/>
                                        <p:tgtEl>
                                          <p:spTgt spid="3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Kristen ITC"/>
              </a:rPr>
              <a:t>                 </a:t>
            </a:r>
            <a:r>
              <a:rPr b="0" lang="en-US" sz="3200" spc="-1" strike="noStrike">
                <a:solidFill>
                  <a:srgbClr val="ffcc00"/>
                </a:solidFill>
                <a:latin typeface="Kristen ITC"/>
              </a:rPr>
              <a:t>Nucleus!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Kristen ITC"/>
              </a:rPr>
              <a:t>                  </a:t>
            </a:r>
            <a:r>
              <a:rPr b="0" lang="en-US" sz="3200" spc="-1" strike="noStrike">
                <a:solidFill>
                  <a:srgbClr val="ffcc00"/>
                </a:solidFill>
                <a:latin typeface="Kristen ITC"/>
              </a:rPr>
              <a:t>Nucleus!!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Kristen ITC"/>
              </a:rPr>
              <a:t>                    </a:t>
            </a:r>
            <a:r>
              <a:rPr b="0" lang="en-US" sz="3200" spc="-1" strike="noStrike">
                <a:solidFill>
                  <a:srgbClr val="ffcc00"/>
                </a:solidFill>
                <a:latin typeface="Kristen ITC"/>
              </a:rPr>
              <a:t>Nucleus!!!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762120" y="0"/>
            <a:ext cx="4371840" cy="23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roadway"/>
              </a:rPr>
              <a:t>Nucleu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roadway"/>
              <a:ea typeface="Broadway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191120" y="3886200"/>
            <a:ext cx="4952880" cy="29718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0" y="4000680"/>
            <a:ext cx="4114800" cy="28573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5867280" y="0"/>
            <a:ext cx="3276720" cy="384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18:37:23Z</dcterms:created>
  <dc:creator>kwagner</dc:creator>
  <dc:description/>
  <dc:language>en-US</dc:language>
  <cp:lastModifiedBy>kwagner</cp:lastModifiedBy>
  <dcterms:modified xsi:type="dcterms:W3CDTF">2010-12-17T18:54:12Z</dcterms:modified>
  <cp:revision>4</cp:revision>
  <dc:subject/>
  <dc:title>My Cell Project</dc:title>
</cp:coreProperties>
</file>